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5F2-E796-4096-A815-6D30C856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F33-5478-469A-91C4-5C9BBC4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9CB-E770-47FA-949D-202BA6A7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C92-874F-496E-8DA3-AFCC144E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5A04C-5122-464C-8D98-2B97303D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2DD77-A876-4500-8EF2-8B2E5A61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B69B7-ACE7-4E51-8C9F-D921E42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99006-AA42-4D5C-B39C-48A178E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76B18-EF7C-494D-B46F-4DC0E03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9E6D8-B317-43C8-8104-FCC0F18B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CE4CE-EEED-4FFD-971B-821880B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8B9-1C9F-440A-8002-539F63F7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E39F5-87D1-4A31-9D60-F7269E2A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0CB6-F799-4237-A50E-F2F9FBE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0AA39-86BB-4AFE-8FBB-41AC9CA9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E2719-87F1-4EEE-8F1D-5C12BC61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06FAC-A640-499D-A9F8-6D72C12F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0B0-E08B-4A90-B1EE-08C0D910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A3F-623B-4270-9B9A-B932364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E94-ED28-4808-962C-5927E895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22B-8510-4E9A-8BAC-DE0E34C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0D8-FAF0-4C42-BA58-BC26C85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790-8839-42F1-A021-5CDD699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EC5-DC46-4401-980F-63C24BDD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35A2-A68A-4E20-AF49-B4D76C139DDE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343-FC5C-4447-B406-39B732BE6015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ΕΠΙΜΕΛΗΤΗΡΙΟ ΑΡΤΑΣ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ΕΘΝΙΚΟ ΕΠΙΜΕΛΗΤΗΡΙΑΚΟ ΔΙΚΤΥΟ ΕΛΛΗΝΙΔΩΝ ΓΥΝΑΙΚΩΝ ΕΠΙΧΕΙΡΗΜΑΤΙΩΝ ΚΑΙ ΣΤΕΛΕΧΩΝ ΕΠΙΧΕΙΡΗΜΑΤΙΚΩΝ ΦΟΡΕΩΝ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ΑΡΤΑ 4 ΜΑΡΤΙΟΥ 2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ahoma"/>
              </a:rPr>
              <a:t>ΠΑΡΑΔΕΙΓΜΑΤΑ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ΚΡΗΤΗ (ΑΛΟΓΑ, ΛΑΔΙ, ΕΛΙΕΣ …..Πεζώ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ΙΤΥΛΗΝΗ  (Πέτρας, Μεσωτόπου-προϊόντα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ΚΟΖΑΝΗ  (ΤΥΠΟΠΟΙΗΣΗ ΠΡΟΙΟΝΤΩ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ΖΑΚΥΝΘΟ (ΕΚΘΕΤΗΡΙΟ..ΤΥΠΩΠΟΙΗΣΗ Κοιλιωμένου-μελισσιώτισε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ΛΑΚΩΝΙ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(ΚΡΟΚΕΕΣ, ΚΡΗΝΗ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ΡΑΚΗ (ΕΣΤΙΑΤΟΡΙΟ-ΕΡΓΟΣΤΑΣΙΟ ΖΥΜΑΡΙΚΩ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ΡΚΑΔΙΑ (ΤΑΒΕΡΝΑ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ahoma"/>
              </a:rPr>
              <a:t>ΣΧΕΔΙΑ ΑΝΑΠΤΥΞΗΣ ΤΗΣ ΥΠΑΙΘΡΟΥ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ΑΓΡΟΤΟΥΡΙΣΜ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ΣΥΝΑΙΤΕΡΙΣΜΟ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ΦΙΛΟΣΟΦΙΑ ΑΓΡΟΤΟΥΡΙΣΜΟΥ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ΑΝΑΠΤΥΞΗ ΔΙΑΠΡΟΣΩΠΙΚΩΝ ΣΧΕΣΕΩΝ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Ο ΕΠΙΣΚΕΠΤΗΣ ΜΑΘΑΙΝΕΙ ΝΑ ΥΦΑΙΝΕ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ΚΕΝΤΑΕΙ, ΝΑ ΠΑΡΑΤΗΡΕΙ ΤΑ ΖΩΑ, ΤΑ ΠΟΥΛΙΑ ΚΑΙ ΤΑ ΦΥΤΑ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ΔΟΚΙΜΑΖΕΙ ΤΟ ΚΡΑΣΙ, ΤΟ ΤΣΙΠΟΥΡΟ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ΒΛΕΠΕΙ ΤΗΝ ΣΥΓΚΟΜΙΔΗ ΤΩΝ ΚΑΡΠΩ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ΤΗ ΣΥΛΛΟΓΗ ΤΟΥ ΜΕΛΙΟΥ, ΤΗΣ ΕΛΙ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ΤΩΝ ΑΡΩΜΑΤΙΚΩΝ ΦΥΤΩΝ, ΤΩΝ ΚΑΣΤΑΝΩΝ ΚΑΙ ΤΩΝ ΜΑΝΙΤΑΡΙ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ΑΣΚΗΣΗ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ΣΕ </a:t>
            </a: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ΑΘΛΗΜΑΤΑ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ΠΕΡΙΠΕΤΕΙΑΣ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ΞΕΝΑΓΗΣΕΙΣ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ΠΕΡΠΑΤΑΕΙ ΣΤΑ ΔΑΣΩΔΗ ΜΟΝΟΠΑΤΙΑ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ΑΠΟΛΑΜΒΑΝΕΙ ΤΑ ΟΡΜΗΤΙΚΑ ΠΟΤΑΜΙΑ ΚΑΙ ΤΙΣ ΗΡΕΜΕΣ ΛΙΜΝΕΣ, ΤΙΣ ΘΑΛΑΣΣΕΣ Μ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ΕΠΙΣΚΕΠΤΕΤΑΙ ΕΚΚΛΗΣΙΕΣ ΚΑΙ ΜΟΝΑΣΤΗΡΙΑ, ΠΕΤΡΙΝΑ ΓΕΦΥΡΙΑ ΚΑΙ ΑΡΧΑΙΟΛΟΓΙΚΑ ΕΥΡΗ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ΝΑ ΠΗΓΑΙΝΕΙ ΣΕ ΠΑΝΗΓΥΡΙΑ ΚΑΙ ΝΑ ΑΠΟΛΑΜΒΑΝΕΙ ΤΟΠΙΚΑ ΕΘΙ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Ο ΡΟΛΟΣ ΤΩΝ ΓΥΝΑΙΚΕΙΩΝ ΣΥΝΕΤΑΙΡΙΣΜΩΝ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ΑΡΟΧΗ ΦΙΛΟΞΕΝΙ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ΑΡΑΓΩΓΗ, ΜΕΤΑΠΟΙΗΣΗ, ΠΡΟΩΘΗΣΗ ΚΑΙ ΕΜΠΟΡΙΟ ΤΟΠΙΚΩΝ ΠΡΟΙΟΝ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ΑΡΑΔΟΣΙΑΚΗ ΤΟΠΙΚΗ ΓΑΣΤΡΟΝΟΜΙ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ΕΠΑΓΓΕΛΜΑΤΙΚΗ ΔΙΕΞΟΔ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ΣΥΜΠΛΗΡΩΜΑ ΣΤΟ ΕΙΣΟΔΗ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ΕΠΙΚΟΙΝΩΝΙΑ ΜΕΤΑΞΥ ΑΝΘΡΩΠΩΝ, ΛΑ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ahoma"/>
              </a:rPr>
              <a:t>ΑΓΡΟΤΟΥΡΙΣΤΙΚΕΣ ΕΠΙΧΕΙΡΗΣΕΙΣ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ΑΓΡΟΤΟΥΡΙΣΤΙΚΑ ΚΑΤΑΛΥ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ΡΑΤΗΡΙΑ ΑΓΡΟΤΟΥΡΙΣΤΙΚΩΝ ΠΡΟΙΟΝ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ΚΕΝΤΡΑ ΕΣΤΙΑΣΗΣ ΚΑΙ ΑΝΑΨΥΧ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ΤΟΥΡΙΣΤΙΚΑ ΓΡΑΦΕΙ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ΕΠΙΧΕΙΡΗΣΕΙΣ ΠΑΡΑΓΩΓΗΣ ΠΡΟΙΟΝΤΩΝ - ΠΑΡΟΧΗΣ ΥΠΗΡΕΣΙ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ahoma"/>
              </a:rPr>
              <a:t>ΕΠΙΧΕΙΡΗΜΑΤΙΑΣ ΑΓΡΟΤΟΥΡΙΣΜΟΥ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Η ΕΠΙΧΕΙΡΗΣΗ ΠΡΟΕΡΧΕΤΑΙ ΑΠΟ ΤΗΝ ΤΟΠΙΚΗ ΚΟΙΝΟΤΗ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Ο ΕΠΙΧΕΙΡΗΜΑΤΙΑΣ ΣΕΒΕΤΑΙ ΤΗ ΖΩΗ ΤΟΥ ΑΛΛΟΥ, ΤΙΣ ΑΠΑΙΤΗΣΕΙΣ, ΤΑ ΧΡΗ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ΡΟΣΠΑΘΕΙ ΝΑ ΔΗΜΙΟΥΡΓΗΣΕΙ ΜΟΝΙΜΗ ΠΕΛΑΤΕΙ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ΔΙΝΕΙ ΔΟΥΛΕΙΑ ΣΤΟΥΣ ΑΝΘΡΩΠΟΥΣ ΖΩΗ ΚΑΙ ΟΙΚΝΟΜΙΚΗ ΑΝΑΠΤΥΞΗ ΣΤΟΝ ΤΟΠΟ ΤΟ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ahoma"/>
              </a:rPr>
              <a:t>ΟΡΓΑΝΩΣΗ ΜΙΑΣ ΑΓΡΟΤΟΥΡΙΣΤΙΚΗΣ ΜΟΝΑΔΑΣ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ΣΚΟΠΟΣ ΤΗΣ ΕΠΙΧΕΙΡΗ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ΑΠΑΙΤΟΥΜΕΝΗ ΤΕΧΝΙΚΗ ΥΠΟΔΟΜ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ΥΠΗΡΕΣΙΕΣ - ΠΡΟΙΟΝΤΑ ΠΟΥ ΘΑ ΠΡΟΣΦΕΡΕΤΑ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ΟΡΓΑΝΩΣΗ ΚΑΙ ΠΡΟΩΘΗ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ΔΥΝΑΤΑ – ΑΔΥΝΑΤΑ ΣΗΜΕΙΑ ΕΠΙΧΕΙΡΗ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ΕΠΙΧΕΙΡΗΜΑΤΙΚΕΣ ΕΥΚΑΙΡΙ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ΕΠΙΧΕΙΡΗΜΑΤΙΚΕΣ ΑΠΕΙΛ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Tahoma"/>
              </a:rPr>
              <a:t>ΤΙΜΟΛΟΓΙΑΚΗ ΠΟΛΙΤΙΚΗ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ΣΗΜΑΝΤΙΚΗ ΓΙΑ ΤΗΝ ΒΙΩΣΙΜΟΤΗ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ΟΥ ΑΠΕΥΘΥΝΕΣΤ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ΓΝΩΣΗ ΤΗΣ ΑΓΟΡ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ΣΥΝΕΡΓΑΣΙΑ ΜΕ ΤΟΥΡΙΣΤΙΚΑ ΓΡΑΦΕΙ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ΜΕΛΕΤΗ ΤΟΥ ΑΝΤΑΓΩΝΙΣΜΟ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ΠΡΟΣΑΡΜΟΓΗ ΣΤΑ ΝΕΑ ΔΕΔΟΜΕΝ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ΤΙΜΕΣ ΕΛΚΥΣΤΙΚΕΣ ΥΠΗΡΕΣΙΕΣ ΥΨΗΛΟΥ ΕΠΙΠΕΔΟ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7:59:05Z</dcterms:created>
  <dc:creator>Economacos</dc:creator>
  <dc:description/>
  <dc:language>en-US</dc:language>
  <cp:lastModifiedBy>Economacos</cp:lastModifiedBy>
  <dcterms:modified xsi:type="dcterms:W3CDTF">2012-03-09T17:20:01Z</dcterms:modified>
  <cp:revision>3</cp:revision>
  <dc:subject/>
  <dc:title>ΕΠΙΜΕΛΗΤΗΡΙΟ ΑΡΤΑΣ &amp; ΕΘΝΙΚΟ ΕΠΙΜΕΛΗΤΗΡΙΑΚΟ ΔΙΚΤΥΟ ΕΛΛΗΝΙΔΩΝ ΓΥΝΑΙΚΩΝ ΕΠΙΧΕΙΡΗΜΑΤΙΩΝ ΚΑΙ ΣΤΕΛΕΧΩΝ ΕΠΙΧΕΙΡΗΜΑΤΙΚΩΝ ΦΟΡΕΩΝ</dc:title>
</cp:coreProperties>
</file>